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F32-2C03-446B-84C9-7B54B873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AF8-456E-4D6C-9852-CBE097EC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70E-68A4-455C-9D6A-1191DBF7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814-BE6F-47C9-8A8A-1E896FB6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D3A9-FC1C-4158-976A-EC493C96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250-2EDD-401F-B52D-3F2229E7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02B-69C5-4336-BA47-0BE682B8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DB7-1912-4807-B4C4-FE8A270B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F54-54D8-47E8-9D52-214AF141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77FA-EFDB-4C1E-B039-74261A25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ED8-0FF5-4B82-9D26-AA66A15F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781-E191-42A3-B391-6053FA18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3A00-ADD6-486A-A5F4-D70829301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9360" y="25970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7880" y="25970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4200" y="25970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94160" y="25970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9200" y="2597040"/>
            <a:ext cx="17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3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920" y="259704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2320" y="39751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30480" y="39751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36800" y="39751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06760" y="39751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1800" y="3975120"/>
            <a:ext cx="17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2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43520" y="397512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992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02040" y="1992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360" y="1992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78320" y="1992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43360" y="1992240"/>
            <a:ext cx="17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1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38560" y="1992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9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7280" y="46213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25800" y="46213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32120" y="46213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9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7800" y="462132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75080" y="4621320"/>
            <a:ext cx="17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6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51400" y="462132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1160" y="52657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52657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6000" y="52657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1320" y="526572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68960" y="5265720"/>
            <a:ext cx="17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1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45280" y="526572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5200" y="32796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33720" y="32796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40040" y="32796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9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65720" y="327960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83000" y="3279600"/>
            <a:ext cx="17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8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59320" y="327960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440" y="13446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09960" y="13446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16280" y="13446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0400" y="13446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78360" y="1344600"/>
            <a:ext cx="14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2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54680" y="134460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3240" y="5853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1400" y="5853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18080" y="5853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1840" y="5853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22840" y="5853240"/>
            <a:ext cx="14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7040" y="58532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84040" y="1379520"/>
            <a:ext cx="239364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ven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86920" y="2027160"/>
            <a:ext cx="229896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dd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8320" y="2630520"/>
            <a:ext cx="257184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i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38120" y="3303720"/>
            <a:ext cx="224280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ultiples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21200" y="3998880"/>
            <a:ext cx="305640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oubling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12640" y="4695840"/>
            <a:ext cx="273348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quar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42080" y="5345280"/>
            <a:ext cx="292860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riang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0800" y="5932440"/>
            <a:ext cx="310392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ibonacci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19040" y="237960"/>
            <a:ext cx="8361360" cy="10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Do you know this Sequence?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5360" y="3209760"/>
            <a:ext cx="28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, 6, 8, 10, 1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5880" y="5003640"/>
            <a:ext cx="33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, -4, -9, -14, -19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9520" y="2319480"/>
            <a:ext cx="28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, 4, 7, 10, 1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4840" y="4110120"/>
            <a:ext cx="24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-3, 0, 3, 6, 9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5600" y="134460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, 8, 27, 64, 12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37360" y="1376280"/>
            <a:ext cx="243612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ub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2073240"/>
            <a:ext cx="302580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art from 1 and count up in th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19040" y="237960"/>
            <a:ext cx="8361360" cy="10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Do you know this Sequence?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415040" y="134136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16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28600" y="231300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6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45960" y="320976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4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04000" y="3083040"/>
            <a:ext cx="302580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art from 4 and count up in tw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06320" y="4094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2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02200" y="4017960"/>
            <a:ext cx="302580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art from -3 and count up in th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2400" y="500868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-24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04000" y="4905360"/>
            <a:ext cx="302580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art from 1 and count down in f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15:24:27Z</dcterms:created>
  <dc:creator>Trifon</dc:creator>
  <dc:description/>
  <dc:language>en-US</dc:language>
  <cp:lastModifiedBy>Trifon</cp:lastModifiedBy>
  <dcterms:modified xsi:type="dcterms:W3CDTF">2003-11-03T22:08:51Z</dcterms:modified>
  <cp:revision>3</cp:revision>
  <dc:subject/>
  <dc:title>Slide 1</dc:title>
</cp:coreProperties>
</file>